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E0CD-D52D-4C33-ACE8-CB5C968D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2b2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3A7-08AF-43A3-A85E-960980AC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F38-DFEB-4799-8D88-CF741B1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629-7C85-4407-BD92-3DB8F11F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74F-4F59-4996-A662-632474D7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AB1-6952-4C4D-B54E-657BC0F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A34-8411-489F-ACE9-F046ACA9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728-48E4-410D-B01F-908838C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847-F888-4220-BCDE-CCB06008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94F-5D7F-47B8-BE62-7B044B12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03E-A374-4C8B-A09B-E50544D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52C-338F-4587-991A-5D2B2952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151-1803-446B-8CE4-519C0C80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156-BA82-45BE-A36F-68D673DF5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8320" y="609480"/>
            <a:ext cx="8440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georgia"/>
              </a:rPr>
              <a:t>A Perfect Guide to Americans</a:t>
            </a:r>
            <a:br>
              <a:rPr sz="4800"/>
            </a:b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ocial Customs (Japan on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4960" y="6095880"/>
            <a:ext cx="66182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nHa Park, James Chae, Jenny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 Block Asian Stud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38280" y="2235240"/>
            <a:ext cx="57769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7. Forks and Kniv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15920" y="1523880"/>
            <a:ext cx="381024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94360" y="1422360"/>
            <a:ext cx="2670120" cy="3808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2600" y="5587920"/>
            <a:ext cx="893736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Rather than using </a:t>
            </a:r>
            <a:r>
              <a:rPr b="1" lang="en-US" sz="2900" spc="-1" strike="noStrike">
                <a:solidFill>
                  <a:srgbClr val="b45f06"/>
                </a:solidFill>
                <a:latin typeface="Times New Roman"/>
              </a:rPr>
              <a:t>chopstick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for eating utensils, Americans used </a:t>
            </a:r>
            <a:r>
              <a:rPr b="1" lang="en-US" sz="2900" spc="-1" strike="noStrike">
                <a:solidFill>
                  <a:srgbClr val="444444"/>
                </a:solidFill>
                <a:latin typeface="Times New Roman"/>
              </a:rPr>
              <a:t>forks</a:t>
            </a:r>
            <a:r>
              <a:rPr b="0" lang="en-US" sz="2700" spc="-1" strike="noStrike">
                <a:solidFill>
                  <a:srgbClr val="444444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444444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444444"/>
                </a:solidFill>
                <a:latin typeface="Times New Roman"/>
              </a:rPr>
              <a:t>knive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320" y="304560"/>
            <a:ext cx="96598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8. Experience: Fo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440" y="1320840"/>
            <a:ext cx="4664160" cy="384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283360" y="1320840"/>
            <a:ext cx="4348080" cy="381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3680" y="5683320"/>
            <a:ext cx="89154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mericans seemed to show interests in Japanese production of </a:t>
            </a:r>
            <a:r>
              <a:rPr b="1" lang="en-US" sz="2900" spc="-1" strike="noStrike">
                <a:solidFill>
                  <a:srgbClr val="0b5394"/>
                </a:solidFill>
                <a:latin typeface="Times New Roman"/>
              </a:rPr>
              <a:t>good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, yet are very ignorant and unskill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9. Spiritual Music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51160" y="1117440"/>
            <a:ext cx="3932280" cy="397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0720" y="5384880"/>
            <a:ext cx="913932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Spiritual music was created by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slave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in America. This type of music only uses vocal voices, and it was </a:t>
            </a:r>
            <a:r>
              <a:rPr b="1" lang="en-US" sz="2900" spc="-1" strike="noStrike">
                <a:solidFill>
                  <a:srgbClr val="38761d"/>
                </a:solidFill>
                <a:latin typeface="Times New Roman"/>
              </a:rPr>
              <a:t>religiou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, which was designed to give people </a:t>
            </a:r>
            <a:r>
              <a:rPr b="1" lang="en-US" sz="2900" spc="-1" strike="noStrike">
                <a:solidFill>
                  <a:srgbClr val="ff9900"/>
                </a:solidFill>
                <a:latin typeface="Times New Roman"/>
              </a:rPr>
              <a:t>faith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680" y="121932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Hogak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10. Etiquett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680" y="5486400"/>
            <a:ext cx="963936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Times New Roman"/>
              </a:rPr>
              <a:t>Bowing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in the American culture wasn't considered as important as it was in the Japanese culture.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, when they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</a:rPr>
              <a:t>greeted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one another, they bowed to each other without speak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33720" y="1311120"/>
            <a:ext cx="60228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Cit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7320" y="1219320"/>
            <a:ext cx="9667800" cy="70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    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Bosso, David. "A Japan Experience: Social Customs." </a:t>
            </a:r>
            <a:r>
              <a:rPr b="0" i="1" lang="en-US" sz="2000" spc="-1" strike="noStrike">
                <a:solidFill>
                  <a:srgbClr val="000000"/>
                </a:solidFill>
                <a:latin typeface="'Times New Roman'"/>
              </a:rPr>
              <a:t>A Japan Experience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. Web. 28 Nov. 2011. &lt;http://media.berlinschools.org/~dbosso/japan/customs.htm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    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Dower, John W. "Black Ships and Samurai." </a:t>
            </a:r>
            <a:r>
              <a:rPr b="0" i="1" lang="en-US" sz="2000" spc="-1" strike="noStrike">
                <a:solidFill>
                  <a:srgbClr val="000000"/>
                </a:solidFill>
                <a:latin typeface="'Times New Roman'"/>
              </a:rPr>
              <a:t>Free Online Course Materials | MIT OpenCourseWare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. MIT Visualizing Cultures, 2010. Web. 26 Nov. 2011. &lt;http://ocw.mit.edu/ans7870/21f/21f.027/black_ships_and_samurai/bss_essay05.html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Mishima, Shizuko. "Japanese Culture and Etiquette." </a:t>
            </a:r>
            <a:r>
              <a:rPr b="0" i="1" lang="en-US" sz="2000" spc="-1" strike="noStrike">
                <a:solidFill>
                  <a:srgbClr val="000000"/>
                </a:solidFill>
                <a:latin typeface="'Times New Roman'"/>
              </a:rPr>
              <a:t>Japan Travel Guide - Travel to Japan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. About.com. Web. 25 Nov. 2011. &lt;http://gojapan.about.com/od/japaneseculture/u/japaneseculture.htm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    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Unknown. "Customs of Japan - Artelino." </a:t>
            </a:r>
            <a:r>
              <a:rPr b="0" i="1" lang="en-US" sz="2000" spc="-1" strike="noStrike">
                <a:solidFill>
                  <a:srgbClr val="000000"/>
                </a:solidFill>
                <a:latin typeface="'Times New Roman'"/>
              </a:rPr>
              <a:t>Artelino - Japanese Prints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. Artelino. Web. 26 Nov. 2011. &lt;http://www.artelino.com/articles/customs-of-japan.asp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Image Cit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7320" y="1320840"/>
            <a:ext cx="9666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georgia"/>
              </a:rPr>
              <a:t>http://www.houston.us.emb-japan.go.jp/en/archive/page20090114.htm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 u="sng">
                <a:solidFill>
                  <a:srgbClr val="ccccff"/>
                </a:solidFill>
                <a:uFillTx/>
                <a:latin typeface="georgia"/>
              </a:rPr>
              <a:t>http://hararie-japan-tokyo-tokyo.com/japanese_culture/temporary-category-a/japanese-chopsticks/chopsticks-etiquette/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 u="sng">
                <a:solidFill>
                  <a:srgbClr val="ccccff"/>
                </a:solidFill>
                <a:uFillTx/>
                <a:latin typeface="georgia"/>
              </a:rPr>
              <a:t>http://www.wikipaintings.org/en/utagawa-kuniyoshi/the-sumo-wrestl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2b29"/>
                </a:solidFill>
                <a:latin typeface="georgia"/>
              </a:rPr>
              <a:t>http://www.usna.edu/LibExhibits/collections/perry/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2b29"/>
                </a:solidFill>
                <a:latin typeface="georgia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http://blogimg.goo.ne.jp/user_image/40/58/6c8cf03e249642351b700c3eb3060db9.jpg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2b29"/>
                </a:solidFill>
                <a:latin typeface="georgia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Dower, John W. "Black Ships and Samurai." </a:t>
            </a:r>
            <a:r>
              <a:rPr b="0" i="1" lang="en-US" sz="2000" spc="-1" strike="noStrike">
                <a:solidFill>
                  <a:srgbClr val="000000"/>
                </a:solidFill>
                <a:latin typeface="'Times New Roman'"/>
              </a:rPr>
              <a:t>Free Online Course Materials | MIT OpenCourseWare</a:t>
            </a:r>
            <a:r>
              <a:rPr b="0" lang="en-US" sz="2000" spc="-1" strike="noStrike">
                <a:solidFill>
                  <a:srgbClr val="000000"/>
                </a:solidFill>
                <a:latin typeface="'Times New Roman'"/>
              </a:rPr>
              <a:t>. MIT Visualizing Cultures, 2010. Web. 26 Nov. 2011. &lt;http://ocw.mit.edu/ans7870/21f/21f.027/black_ships_and_samurai/bss_essay05.html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507960"/>
            <a:ext cx="96678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eorgia"/>
              </a:rPr>
              <a:t>Location of US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4600" y="1930320"/>
            <a:ext cx="4417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1480" y="1765440"/>
            <a:ext cx="8076960" cy="40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8031960" y="3460680"/>
            <a:ext cx="622440" cy="59688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77280" y="386064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Ja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320" y="507960"/>
            <a:ext cx="96678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Are The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960" y="1422360"/>
            <a:ext cx="9174240" cy="578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0720" y="1523880"/>
            <a:ext cx="65311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- From the West (different part of the worl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- Very influenti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- More advanced and powerfu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- Adaptable peo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1. Bathing Metho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5587920"/>
            <a:ext cx="9685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mericans tend to bath </a:t>
            </a: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alone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rather than in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84880" y="1930320"/>
            <a:ext cx="4481280" cy="299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06440" y="1828800"/>
            <a:ext cx="4808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2. Pleasures and Entertainmen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5079960"/>
            <a:ext cx="9613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mericans seem to have deep interests in entertainment and pleasures. They often tend to </a:t>
            </a:r>
            <a:r>
              <a:rPr b="1" lang="en-US" sz="2900" spc="-1" strike="noStrike">
                <a:solidFill>
                  <a:srgbClr val="741b47"/>
                </a:solidFill>
                <a:latin typeface="Times New Roman"/>
              </a:rPr>
              <a:t>dance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around and </a:t>
            </a:r>
            <a:r>
              <a:rPr b="1" lang="en-US" sz="2900" spc="-1" strike="noStrike">
                <a:solidFill>
                  <a:srgbClr val="38761d"/>
                </a:solidFill>
                <a:latin typeface="Times New Roman"/>
              </a:rPr>
              <a:t>shout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loudly in their drunken state, and show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interest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for Japanes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stitute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4825800" cy="374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06440" y="1219320"/>
            <a:ext cx="409896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3. Respect Towards the D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" y="5181120"/>
            <a:ext cx="94917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mericans have great respect towards the </a:t>
            </a:r>
            <a:r>
              <a:rPr b="1" lang="en-US" sz="2900" spc="-1" strike="noStrike">
                <a:solidFill>
                  <a:srgbClr val="332b29"/>
                </a:solidFill>
                <a:latin typeface="Times New Roman"/>
              </a:rPr>
              <a:t>dead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, and take special care for their funerals. By showing great respect, it shows that they might not be the "</a:t>
            </a:r>
            <a:r>
              <a:rPr b="1" lang="en-US" sz="2900" spc="-1" strike="noStrike">
                <a:solidFill>
                  <a:srgbClr val="332b29"/>
                </a:solidFill>
                <a:latin typeface="Times New Roman"/>
              </a:rPr>
              <a:t>southern barbarian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" or "</a:t>
            </a:r>
            <a:r>
              <a:rPr b="1" lang="en-US" sz="2900" spc="-1" strike="noStrike">
                <a:solidFill>
                  <a:srgbClr val="332b29"/>
                </a:solidFill>
                <a:latin typeface="Times New Roman"/>
              </a:rPr>
              <a:t>foreign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devil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"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25760" y="1828800"/>
            <a:ext cx="69213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678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4. Sumo Wrest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6197400"/>
            <a:ext cx="97106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mericans seem to be surprised and </a:t>
            </a:r>
            <a:r>
              <a:rPr b="1" lang="en-US" sz="2900" spc="-1" strike="noStrike">
                <a:solidFill>
                  <a:srgbClr val="134f5c"/>
                </a:solidFill>
                <a:latin typeface="Times New Roman"/>
              </a:rPr>
              <a:t>envious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of great Japanese Sumo wrestlers; they must not have such manly sports in the U.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92840" y="1015920"/>
            <a:ext cx="3295440" cy="493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4920" y="1320840"/>
            <a:ext cx="5397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5. African America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1590840"/>
            <a:ext cx="5367240" cy="227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0720" y="4876920"/>
            <a:ext cx="89092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Americans seem to be quite </a:t>
            </a:r>
            <a:r>
              <a:rPr b="1" lang="en-US" sz="2900" spc="-1" strike="noStrike">
                <a:solidFill>
                  <a:srgbClr val="bf9000"/>
                </a:solidFill>
                <a:latin typeface="Times New Roman"/>
              </a:rPr>
              <a:t>proud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of their black slaves, yet Japanese people do not see any reason for thinking s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892840" y="507960"/>
            <a:ext cx="35812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6. Sensitive Charact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41680" y="914400"/>
            <a:ext cx="5484600" cy="423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54120" y="5486400"/>
            <a:ext cx="840564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Many Americans showed deep interest in </a:t>
            </a:r>
            <a:r>
              <a:rPr b="1" lang="en-US" sz="2900" spc="-1" strike="noStrike">
                <a:solidFill>
                  <a:srgbClr val="674ea7"/>
                </a:solidFill>
                <a:latin typeface="Times New Roman"/>
              </a:rPr>
              <a:t>artistic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and </a:t>
            </a:r>
            <a:r>
              <a:rPr b="1" lang="en-US" sz="2900" spc="-1" strike="noStrike">
                <a:solidFill>
                  <a:srgbClr val="134f5c"/>
                </a:solidFill>
                <a:latin typeface="Times New Roman"/>
              </a:rPr>
              <a:t>cultural</a:t>
            </a:r>
            <a:r>
              <a:rPr b="0" lang="en-US" sz="2700" spc="-1" strike="noStrike">
                <a:solidFill>
                  <a:srgbClr val="332b29"/>
                </a:solidFill>
                <a:latin typeface="Times New Roman"/>
              </a:rPr>
              <a:t> matters; maybe they are not the barbarians we think them to b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